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0173-F618-4DCD-BB8A-76FEB0E1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D841-EBAA-4D15-9CCE-09B25732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81F8-CDC6-4EC4-B25A-2E8A8C707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01BD-8EC3-4593-B35C-899BE64B2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CB73-7825-4499-9D1B-581D70DF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4269-3A31-4C80-8711-DA3AEB2C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AA62-C5C4-4FEF-9794-1603360A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E139-BC33-4555-B1FD-FD9AED59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487F-9440-43C3-8F2A-D2CFA1E3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4F43-A9B1-44F0-9D91-A5F5D891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AA37-739F-4DD6-B9C8-340A096C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6359-C8AD-43B9-96D8-177B4F0A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454B-D459-4BF6-A5EE-F019DB3F0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hyperlink" Target="http://es.wikipedia.org/wiki/Total_Recall" TargetMode="External"/><Relationship Id="rId5" Type="http://schemas.openxmlformats.org/officeDocument/2006/relationships/hyperlink" Target="http://es.wikipedia.org/wiki/Total_Recall" TargetMode="External"/><Relationship Id="rId6" Type="http://schemas.openxmlformats.org/officeDocument/2006/relationships/hyperlink" Target="http://es.wikipedia.org/wiki/Total_Recall" TargetMode="External"/><Relationship Id="rId7" Type="http://schemas.openxmlformats.org/officeDocument/2006/relationships/hyperlink" Target="http://es.wikipedia.org/wiki/Total_Recall" TargetMode="External"/><Relationship Id="rId8" Type="http://schemas.openxmlformats.org/officeDocument/2006/relationships/hyperlink" Target="http://es.wikipedia.org/wiki/Total_Recall" TargetMode="External"/><Relationship Id="rId9" Type="http://schemas.openxmlformats.org/officeDocument/2006/relationships/hyperlink" Target="http://es.wikipedia.org/wiki/Total_Recall" TargetMode="External"/><Relationship Id="rId10" Type="http://schemas.openxmlformats.org/officeDocument/2006/relationships/hyperlink" Target="http://es.wikipedia.org/wiki/Total_Recall" TargetMode="External"/><Relationship Id="rId1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d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32000" y="1700280"/>
            <a:ext cx="604836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EDIPO REY"</a:t>
            </a:r>
            <a:endParaRPr b="0" lang="en-US" sz="18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E SÓFOCLES</a:t>
            </a:r>
            <a:endParaRPr b="0" lang="en-US" sz="18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d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9640" y="242100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66ff"/>
                </a:solidFill>
                <a:latin typeface="Arial"/>
              </a:rPr>
              <a:t>Edipo manda a Creonte a consultar el oráculo para averiguar el origen de la peste de Teb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716360" y="765000"/>
            <a:ext cx="3041640" cy="5185080"/>
          </a:xfrm>
          <a:prstGeom prst="rect">
            <a:avLst/>
          </a:prstGeom>
          <a:ln w="22320">
            <a:solidFill>
              <a:srgbClr val="3366ff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2700360" y="5516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este de Te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1557360"/>
            <a:ext cx="31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Motivo de la investi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d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2492280"/>
            <a:ext cx="36720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66ff"/>
                </a:solidFill>
                <a:latin typeface="Arial"/>
              </a:rPr>
              <a:t>Dicha peste desaparecera si se venga la muerte de Layo. Se inicia una investig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66ff"/>
                </a:solidFill>
                <a:latin typeface="Arial"/>
              </a:rPr>
              <a:t>Creonte señala que el testigo del crimen no se encuentra en la ciudad y que los tebanos habían sufrido muchos males a causa de la esfi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2637000"/>
            <a:ext cx="324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64000" y="1628640"/>
            <a:ext cx="2714760" cy="3619800"/>
          </a:xfrm>
          <a:prstGeom prst="rect">
            <a:avLst/>
          </a:prstGeom>
          <a:ln w="22320">
            <a:solidFill>
              <a:srgbClr val="3366ff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4211640" y="4869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sf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557360"/>
            <a:ext cx="30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Objetivo de la investi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d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9640" y="2421000"/>
            <a:ext cx="352908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66ff"/>
                </a:solidFill>
                <a:latin typeface="Arial"/>
              </a:rPr>
              <a:t>Tiresias, el adivino, </a:t>
            </a:r>
            <a:r>
              <a:rPr b="0" lang="es-ES_tradnl" sz="1800" spc="-1" strike="noStrike">
                <a:solidFill>
                  <a:srgbClr val="3366ff"/>
                </a:solidFill>
                <a:latin typeface="Arial"/>
              </a:rPr>
              <a:t>dice que Edipo está directamente implicado en el asesinato ya que </a:t>
            </a:r>
            <a:r>
              <a:rPr b="0" lang="es-ES" sz="1800" spc="-1" strike="noStrike">
                <a:solidFill>
                  <a:srgbClr val="3366ff"/>
                </a:solidFill>
                <a:latin typeface="Arial"/>
              </a:rPr>
              <a:t>afirma que éstos no son sus padres reales, sino que lo acogieron en adop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66ff"/>
                </a:solidFill>
                <a:latin typeface="Arial"/>
              </a:rPr>
              <a:t>Edipo lo interpreta que como una conspiración del anciano y de Creonte.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427640" y="836640"/>
            <a:ext cx="3924360" cy="5111640"/>
          </a:xfrm>
          <a:prstGeom prst="rect">
            <a:avLst/>
          </a:prstGeom>
          <a:ln w="22320">
            <a:solidFill>
              <a:srgbClr val="3366ff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3203640" y="5516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iresi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1557360"/>
            <a:ext cx="31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Indicios de estar impl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d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11280" y="2205000"/>
            <a:ext cx="32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66ff"/>
                </a:solidFill>
                <a:latin typeface="Arial"/>
              </a:rPr>
              <a:t>Edipo y Yocasta después de narrar sus historias, escuchan al mensajero y se dan cuenta de que Tiresias estaba en lo cier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859280" y="620640"/>
            <a:ext cx="3414600" cy="4896000"/>
          </a:xfrm>
          <a:prstGeom prst="rect">
            <a:avLst/>
          </a:prstGeom>
          <a:ln w="22320">
            <a:solidFill>
              <a:srgbClr val="3366ff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564000" y="4941720"/>
            <a:ext cx="122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Yoca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d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11280" y="2349360"/>
            <a:ext cx="28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66ff"/>
                </a:solidFill>
                <a:latin typeface="Arial"/>
              </a:rPr>
              <a:t>Al darse cuenta de que verdaderamente es él el asesino de Layo, para que nadie reciba el deshonor de su mirada, se arranca los oj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932360" y="1773360"/>
            <a:ext cx="2989440" cy="3168360"/>
          </a:xfrm>
          <a:prstGeom prst="rect">
            <a:avLst/>
          </a:prstGeom>
          <a:ln w="22320">
            <a:solidFill>
              <a:srgbClr val="3366ff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3851280" y="4508640"/>
            <a:ext cx="158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d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70028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Resultado f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d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55640" y="83664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dipo Rey” como referente cinematográfico trae películas al cine co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2160720" cy="3557520"/>
          </a:xfrm>
          <a:prstGeom prst="rect">
            <a:avLst/>
          </a:prstGeom>
          <a:ln w="22320">
            <a:solidFill>
              <a:srgbClr val="3366ff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564000" y="2205000"/>
            <a:ext cx="2087640" cy="3529080"/>
          </a:xfrm>
          <a:prstGeom prst="rect">
            <a:avLst/>
          </a:prstGeom>
          <a:ln w="22320">
            <a:solidFill>
              <a:srgbClr val="3366ff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156360" y="2205000"/>
            <a:ext cx="2160720" cy="3529080"/>
          </a:xfrm>
          <a:prstGeom prst="rect">
            <a:avLst/>
          </a:prstGeom>
          <a:ln w="22320">
            <a:solidFill>
              <a:srgbClr val="3366ff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684360" y="6165720"/>
            <a:ext cx="24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5942160"/>
            <a:ext cx="62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://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es.wikipedia.org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iki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Total_Re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d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248000" y="587700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Ana Ibáñez Aguilar   2 Bat-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09:50:55Z</dcterms:created>
  <dc:creator>Ana</dc:creator>
  <dc:description/>
  <dc:language>en-US</dc:language>
  <cp:lastModifiedBy>Ana</cp:lastModifiedBy>
  <dcterms:modified xsi:type="dcterms:W3CDTF">2010-05-17T13:47:24Z</dcterms:modified>
  <cp:revision>7</cp:revision>
  <dc:subject/>
  <dc:title>Diapositiva 1</dc:title>
</cp:coreProperties>
</file>